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21F7-9D34-4217-8161-879B835F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ECE8-CDD8-4D02-A312-27CA44C2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03D-FF91-4AD9-96C4-1115EA2F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FEF-45AF-4513-86EA-37C5B9A5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90B-807B-456C-A179-97E7DE17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360-6A54-4E26-9AE4-972BB409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258-75BA-4EDF-B50E-3A96579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FCC-033D-4FC4-BA0B-A5BDD39C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793-58C9-4CB7-839C-457214C4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372-D73D-4D61-BF8C-CD76AB1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27B-9F50-421E-A6CB-FF9108B1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691-D8C9-4DBC-9DF2-AD0AD527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EED-D8E9-4439-931F-E728760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6A0-1318-4F54-BE75-872A7F7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FBAB-93AE-45DF-859E-656B5AC8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una Parr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Bruna. Yo vivo en New York. Tengo 14 años. Estoy feliz y cansada. Amo música. Yo no tengo her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 mi hermano esta muy mal hoy. Yo estoy muy hambrienta. Jajaja Vamos!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4724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Buenas tarde como estas Katy?, si yo quiero comer helados. ¿ Pero tú hermano tambien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4191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Hola, Bruna tú quieres comer helados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1148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 Katy y Bruna!!! Él Nate y yo vamos ter una fiesta hoy as cuatr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Ustedes quieren i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ndrea Chaves</cp:lastModifiedBy>
  <dcterms:modified xsi:type="dcterms:W3CDTF">2012-12-06T14:57:29Z</dcterms:modified>
  <cp:revision>105</cp:revision>
  <dc:subject/>
  <dc:title>Profile</dc:title>
</cp:coreProperties>
</file>